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37692-C83B-4AC3-BC9B-AB2C59540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8F434-1CED-48FA-994F-E3B2E2077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702E9-C9CC-4A99-B3DC-EA343BDCD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AEE24-76A5-4F6D-AE23-54575DB15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A5BE2-2844-4E66-A309-DDA6782E2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D31ED-A119-4150-B767-BF1649C70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2BBB3-1FCF-4911-9356-B569528C3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70C54-F782-45A2-BDFD-4AFEDFFC3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B7A7E-AF56-4BE6-BFAF-5A3F17F71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972F3-6425-45C6-9D64-BDFBCCA19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F48E0-EBCD-447F-8348-E34A2629D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DF433-1818-45F4-B8E4-BE2A7497C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A1EA-A05E-4972-BF44-4B7887FF0B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u="sng">
                <a:solidFill>
                  <a:srgbClr val="333333"/>
                </a:solidFill>
                <a:uFillTx/>
                <a:latin typeface="Verdana"/>
                <a:ea typeface="Arial"/>
              </a:rPr>
              <a:t>Vacances : à fond la famille !</a:t>
            </a:r>
            <a:endParaRPr b="0" lang="en-US" sz="22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333333"/>
                </a:solidFill>
                <a:latin typeface="Verdana"/>
                <a:ea typeface="Arial"/>
              </a:rPr>
              <a:t>Pour une majorité de Français, les vacances d’été </a:t>
            </a:r>
            <a:endParaRPr b="0" lang="en-US" sz="19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333333"/>
                </a:solidFill>
                <a:latin typeface="Verdana"/>
                <a:ea typeface="Arial"/>
              </a:rPr>
              <a:t>idéales se passent au bord de la mer et en famille</a:t>
            </a:r>
            <a:endParaRPr b="0" lang="en-US" sz="1900" spc="-1" strike="noStrike">
              <a:solidFill>
                <a:srgbClr val="000000"/>
              </a:solidFill>
              <a:latin typeface="Times New Roman"/>
            </a:endParaRPr>
          </a:p>
          <a:p>
            <a:pP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33333"/>
                </a:solidFill>
                <a:latin typeface="Verdana"/>
              </a:rPr>
              <a:t>Où les Français partent-ils, l’été, en vacances? </a:t>
            </a:r>
            <a:endParaRPr b="0" lang="en-US" sz="1900" spc="-1" strike="noStrike">
              <a:solidFill>
                <a:srgbClr val="000000"/>
              </a:solidFill>
              <a:latin typeface="Times New Roman"/>
            </a:endParaRPr>
          </a:p>
          <a:p>
            <a:pP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33333"/>
                </a:solidFill>
                <a:latin typeface="Verdana"/>
              </a:rPr>
              <a:t>Réponse: en France. </a:t>
            </a:r>
            <a:endParaRPr b="0" lang="en-US" sz="1900" spc="-1" strike="noStrike">
              <a:solidFill>
                <a:srgbClr val="000000"/>
              </a:solidFill>
              <a:latin typeface="Times New Roman"/>
            </a:endParaRPr>
          </a:p>
          <a:p>
            <a:pP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33333"/>
                </a:solidFill>
                <a:latin typeface="Verdana"/>
              </a:rPr>
              <a:t>Nous sommes, en effet, 8 sur 10 à rester à l’intérieur de nos frontières et à préférer la mer à toute autre destination. 1 Français sur 2 met ainsi le cap sur les plages, de Méditerranée ou, dans une moindre mesure de l’Atlantique 3 sur 10 choisissent la montagne, 2 sur 10 la campagne. Seulement 1 Français sur 10 part à l’étranger.</a:t>
            </a:r>
            <a:br>
              <a:rPr sz="1900"/>
            </a:br>
            <a:r>
              <a:rPr b="0" lang="fr-FR" sz="1900" spc="-1" strike="noStrike">
                <a:solidFill>
                  <a:srgbClr val="333333"/>
                </a:solidFill>
                <a:latin typeface="Verdana"/>
              </a:rPr>
              <a:t>Mais au fait que recherchons-nous en vacances? Le repos? Pas sûr… Aujourd’hui, il faut bouger pour se sentir en vacances! D’ailleurs escapades en VTT et randonnées pédestres n’ont jamais eu autant de succès. Mais les vacances s’est aussi, et pour plus de 1 Français sur 2, la joie de se retrouver en famille. Pour la majorité des Français, ces moments partagés ensemble sont d’ailleurs le symbole même des vacances. Et vous êtes les premiers à profiter de cette tendance! Aujourd’hui, ce ne sont plus seulement les adultes qui décident du programme estival, mais aussi les enfants. D’où le succès croissant des parcs à thème, comme Disneyland Paris ou le Futuroscope! </a:t>
            </a:r>
            <a:endParaRPr b="0" lang="en-US" sz="1900" spc="-1" strike="noStrike">
              <a:solidFill>
                <a:srgbClr val="000000"/>
              </a:solidFill>
              <a:latin typeface="Times New Roman"/>
            </a:endParaRPr>
          </a:p>
        </p:txBody>
      </p:sp>
      <p:pic>
        <p:nvPicPr>
          <p:cNvPr id="42" name="image_article" descr="Illustration de l'article"/>
          <p:cNvPicPr/>
          <p:nvPr/>
        </p:nvPicPr>
        <p:blipFill>
          <a:blip r:embed="rId2"/>
          <a:stretch/>
        </p:blipFill>
        <p:spPr>
          <a:xfrm>
            <a:off x="6858000" y="0"/>
            <a:ext cx="228600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u="sng">
                <a:solidFill>
                  <a:srgbClr val="333333"/>
                </a:solidFill>
                <a:uFillTx/>
                <a:latin typeface="Verdana"/>
                <a:ea typeface="Arial"/>
              </a:rPr>
              <a:t>Holidays: family is at the heart of it!</a:t>
            </a:r>
            <a:endParaRPr b="0" lang="en-US" sz="22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333333"/>
                </a:solidFill>
                <a:latin typeface="Verdana"/>
                <a:ea typeface="Arial"/>
              </a:rPr>
              <a:t>For the majority of French people, the ideal summer holiday would be at the coast with their family</a:t>
            </a:r>
            <a:endParaRPr b="0" lang="en-US" sz="1900" spc="-1" strike="noStrike">
              <a:solidFill>
                <a:srgbClr val="000000"/>
              </a:solidFill>
              <a:latin typeface="Times New Roman"/>
            </a:endParaRPr>
          </a:p>
          <a:p>
            <a:pP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33333"/>
                </a:solidFill>
                <a:latin typeface="Verdana"/>
              </a:rPr>
              <a:t>Where do French people go on holiday? </a:t>
            </a:r>
            <a:endParaRPr b="0" lang="en-US" sz="1900" spc="-1" strike="noStrike">
              <a:solidFill>
                <a:srgbClr val="000000"/>
              </a:solidFill>
              <a:latin typeface="Times New Roman"/>
            </a:endParaRPr>
          </a:p>
          <a:p>
            <a:pP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33333"/>
                </a:solidFill>
                <a:latin typeface="Verdana"/>
              </a:rPr>
              <a:t>Answer: to France. </a:t>
            </a:r>
            <a:endParaRPr b="0" lang="en-US" sz="1900" spc="-1" strike="noStrike">
              <a:solidFill>
                <a:srgbClr val="000000"/>
              </a:solidFill>
              <a:latin typeface="Times New Roman"/>
            </a:endParaRPr>
          </a:p>
          <a:p>
            <a:pP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33333"/>
                </a:solidFill>
                <a:latin typeface="Verdana"/>
              </a:rPr>
              <a:t>In fact, 8 out of 10 of us stay within the boundaries of our own country and prefer the sea above all other destinations. 1 in 2 French people therefore spend their holidays at the beach – the Mediterranean or, to a lesser extent, the Atlantic.  3 in 10 choose the mountains, 2 in 10 the countryside. Only 1 in 10 French people go abroad.</a:t>
            </a:r>
            <a:br>
              <a:rPr sz="1900"/>
            </a:br>
            <a:r>
              <a:rPr b="0" lang="fr-FR" sz="1900" spc="-1" strike="noStrike">
                <a:solidFill>
                  <a:srgbClr val="333333"/>
                </a:solidFill>
                <a:latin typeface="Verdana"/>
              </a:rPr>
              <a:t>But what do we look for in a holiday? Relaxation? Not sure… today, we have to be on the move to really feel like we’re on holiday! Mountain biking and hiking have never seen so much success. But for 1 in 2 French people, holidays are about the pleasure of spending time as a family. For the majority of French people, these shared moments symbolise a holiday. And you are the first to benefit from this tendency! These days, it’s not just the adults who decide on the program for the summer, but also the children. This explains the growing success of theme parks like Disneyland Paris or Futuroscope! </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11:02:02Z</dcterms:created>
  <dc:creator> starr</dc:creator>
  <dc:description/>
  <dc:language>en-US</dc:language>
  <cp:lastModifiedBy> starr</cp:lastModifiedBy>
  <dcterms:modified xsi:type="dcterms:W3CDTF">2008-02-17T11:14:30Z</dcterms:modified>
  <cp:revision>1</cp:revision>
  <dc:subject/>
  <dc:title>PowerPoint Presentation</dc:title>
</cp:coreProperties>
</file>